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1B3-9956-476A-AD49-2DD807C1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AAC-BB05-435E-94A1-9E07B93B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C86C-A7F1-40E7-890D-61D5C3F4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EF5-3DC3-4981-8A53-BC231956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5B9B-59CC-4EFD-8E6C-49A235CB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87B-217C-4F3C-B9A5-3B8FFA55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688-A019-4467-96C9-AA421CB8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51E-700C-4F9D-9FAD-3F2033B3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891-F781-478E-B55E-029F5064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865-CE45-4884-9F6E-BF68F47D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83D-0463-4E02-945E-73C1907E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CA2-4030-45AF-919C-80D41022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8CF8-B3AB-4631-9B9F-72501AB618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3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TWOOD                               UPHALL  STATION                           WHITEVALE  1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2" descr="Titwood 1.jpg"/>
          <p:cNvPicPr/>
          <p:nvPr/>
        </p:nvPicPr>
        <p:blipFill>
          <a:blip r:embed="rId1"/>
          <a:stretch/>
        </p:blipFill>
        <p:spPr>
          <a:xfrm>
            <a:off x="415800" y="476280"/>
            <a:ext cx="10987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3" descr="Whitevale 175th.jpg"/>
          <p:cNvPicPr/>
          <p:nvPr/>
        </p:nvPicPr>
        <p:blipFill>
          <a:blip r:embed="rId2"/>
          <a:stretch/>
        </p:blipFill>
        <p:spPr>
          <a:xfrm>
            <a:off x="3728880" y="692280"/>
            <a:ext cx="1074960" cy="1036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4" descr="Uphall Station 1.JPG"/>
          <p:cNvPicPr/>
          <p:nvPr/>
        </p:nvPicPr>
        <p:blipFill>
          <a:blip r:embed="rId3"/>
          <a:stretch/>
        </p:blipFill>
        <p:spPr>
          <a:xfrm>
            <a:off x="2000160" y="620640"/>
            <a:ext cx="10796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2-08-24T14:43:43Z</dcterms:modified>
  <cp:revision>89</cp:revision>
  <dc:subject/>
  <dc:title>Slide 1</dc:title>
</cp:coreProperties>
</file>